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0B9-43A6-4059-807E-A6FD5E57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70D-A5E3-4574-B97F-9F34681F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2B1-1663-4B5A-A9AF-E427A9DC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97DE-B8D2-4EFC-A5E4-F57265CE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4CB-0138-4816-B18F-1625E18D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4D8-B4B1-465D-A6C7-034ACB98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4F7-E586-4EE9-8A55-BFD6BFCC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0D1-0FE9-4A9F-84D9-E5B7FD0F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757-8492-47F0-BD0F-AE8A7F36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1B0-54DF-4E2E-8D2F-A7A30AE7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1DB-3B95-4C18-AB97-8F31DD7F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56C7-AC82-497D-8D70-37B349BF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F205-E24B-4865-A337-AE823F867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 what students are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When given a stick, be able to beat a dead h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t from course description –which tells what a course is abou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Review the many instructional media resources that are available to classroom teac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s the condition under which the performance is expected to occ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Using PowerPoint softwar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he aid of lecture no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chart of the Periodic Tab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calculato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ly use conditions when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expected to use something special when perform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A manual, a ruler, a tool,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are prohibited from using something when completing a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calculator, notes,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ers have to perform the task under speci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) time restraints, in front of an audience, in a cockp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n a list of significant political figures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Given a list of significant political figur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be able to identify the current cabinet lead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the part of the objective which is the con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dentify the composer of a piece of classical music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from a list of famous musicia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on (Evalu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s the level of competence that must be reach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Be able to correctly solve 20 out of 30 multiplication problems in a five minute time fr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mmon Criter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(within a time fra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uracy (how correct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( instructor determi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 Tric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ey Gofer, I want you to figure out if this person has achieved __________, Look for this…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other key question to as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well does the learner have to perform to achieve the object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es students to meet the needs of all learners in the classroom, including those with special needs and the exceptional lear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a curriculum which will meet most of the instructional needs represented in the classroo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identify 10 major stars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dentify the criter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n a compass, telescope, and an astrological chart be able to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identify 10 major sta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arts to an Instructional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iteria (Assessm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bes what the learner is expected to be abl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 – You must be able to observe a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) Dance, interview, sing,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overt behavior is expect (identify) use a visible behavior when writing the objective (circ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tatement doesn’t have a visible performance it is NOT an obj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the Objec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e able to create a watercolor painting using impressionistic techniq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 able to develop an appreciation for abstract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1676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verbs describe something you do NOT an internal state of be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) Draw a picture vs. Develop a positive attitude towards classical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oose the performance verb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ra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m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0:57:57Z</dcterms:created>
  <dc:creator>CCS Staff</dc:creator>
  <dc:description/>
  <dc:language>en-US</dc:language>
  <cp:lastModifiedBy>BPS</cp:lastModifiedBy>
  <dcterms:modified xsi:type="dcterms:W3CDTF">2012-04-12T18:04:17Z</dcterms:modified>
  <cp:revision>7</cp:revision>
  <dc:subject/>
  <dc:title>Instructional Objectives</dc:title>
</cp:coreProperties>
</file>